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900F-7B52-415B-B5E1-374CA224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15C-F93B-4D3C-9CC9-712E467B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9CC4-8CF2-4E05-91ED-6F18511D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035-34D2-46DF-A0FF-6E943B6F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045-9786-4CE4-8FCC-483BC395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FAF1-D34D-4219-88D9-5727B268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A47-2526-4670-B51F-7EA5762F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8A13-9CE3-4E16-B777-7783F4AF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070-96F8-4053-8348-423A4674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4BC-355F-46CC-A666-01739442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CB9-6BCF-4FFE-9C28-DF171247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700-B600-4ECC-948A-C7F12F8F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2762-186C-46B1-BA41-AB4153EC2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gnodia St Lou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990720" y="2133720"/>
            <a:ext cx="617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sonal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was born in the Dominican Republi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came to the United States 20 years a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am the mother of two beautiful childr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219320" y="1523880"/>
            <a:ext cx="525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ichard St Lo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cky is 17 year o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is a senior at Central Catholic High Schoo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has been accepted at South New Hampshire Universi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is very happy about his new college lif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133720" y="2895480"/>
            <a:ext cx="33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152280" y="2286000"/>
            <a:ext cx="6858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issa St Lo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issa is 13 year o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e has been accepted at Central Catholic High Schoo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e has a very happy and easy going  personali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066680" y="2362320"/>
            <a:ext cx="6477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sonal 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y main goal in life is to build a strong character childr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ve them the best education that I can affo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t my degree in Multidisciplinar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t My Master degree.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20:15:22Z</dcterms:created>
  <dc:creator>ccstudent</dc:creator>
  <dc:description/>
  <dc:language>en-US</dc:language>
  <cp:lastModifiedBy>ccstudent</cp:lastModifiedBy>
  <dcterms:modified xsi:type="dcterms:W3CDTF">2011-02-05T20:35:28Z</dcterms:modified>
  <cp:revision>2</cp:revision>
  <dc:subject/>
  <dc:title>My Life</dc:title>
</cp:coreProperties>
</file>